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0D1-1B02-4E26-BE44-C271AD91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337-0584-4DD3-ADCB-A3C20609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D72-F372-4E61-87E1-C12A2FF4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8DD-E796-4DED-BC1F-C53CCD80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87C-AAA4-4981-913E-4EA21B71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0CA-3CC6-430B-89AA-ABC0A874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BB4-16CC-4259-8251-FB6AD6A2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8C2-75C0-4EF4-8970-BF5C7D9A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C57-0678-400E-996E-D5DE8AD8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1AF-D2EA-4EBC-8B70-A3C5FC91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96C-8070-45D8-8DD2-C22E6A1A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D61-F83F-401C-B942-822201C7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55CD-01DE-49F7-981B-6F9275CE1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91540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6680" y="304920"/>
            <a:ext cx="79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Together to Build a Community of Successful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772400" y="5334120"/>
            <a:ext cx="1143000" cy="1130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800" y="5334120"/>
            <a:ext cx="75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ing with optimism, enthusiasm, confidence and decis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king the initiative to make a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9:45:18Z</dcterms:created>
  <dc:creator>ssproul</dc:creator>
  <dc:description/>
  <dc:language>en-US</dc:language>
  <cp:lastModifiedBy>ssproul</cp:lastModifiedBy>
  <dcterms:modified xsi:type="dcterms:W3CDTF">2010-06-06T20:53:41Z</dcterms:modified>
  <cp:revision>2</cp:revision>
  <dc:subject/>
  <dc:title>Slide 1</dc:title>
</cp:coreProperties>
</file>